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FD56-2ABA-495A-8E19-72FC32C58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A924-600B-4A30-8E57-9920E96ED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EEB-D066-48F0-B42E-5F4DFC05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E94-5A38-418D-AC62-5F1A110C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2B7-549C-4736-8D42-30B16A34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708-3A66-4C17-97AE-CF87DFEE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7959-D678-4F67-B4F9-BBBB0274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0FB1-FFD2-41DD-A380-5698E38E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9CE9-4FBB-40A7-B608-7A40FE5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BD38-4B29-4788-8DF5-DCC2B7E6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39AD-1ADB-428B-86C4-FE87DFBA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9404-BCBB-489F-A58E-B265F08C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E435-B012-4FAF-82F5-4382D8BC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808-EF45-440D-B339-321B1AFB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35E7-DD2E-48D4-A55F-3C3959D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3684-44D6-46BC-93B3-083206F9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2A4D-EC12-4AA5-A8BD-AB60A097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AB21-8445-4470-A822-56FB9256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D200-5EC2-4C73-8C12-62B00998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A273-4538-4001-B7A7-0B2065D4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BB72-D117-454D-94B4-71263949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327C-1765-4D9C-B37E-24DA2EBA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2ECB-6876-4DDA-B5FA-90C5BB21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F5E4-1EC9-4A92-B92B-B74AE52A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365-CFE1-4D20-84A2-87B264C2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0C15-0CF2-4CF2-835E-0F09DCA9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3B394-56C0-46BF-B362-89A06BF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BB74-6AAB-4B82-B02C-F3BE902E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DCDD-64C8-4638-B1A0-342EE8B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13C1-A9D9-4987-A1F0-33243983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6F01-8310-4706-A6D9-E9FDBFB4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CC42E-4B03-4107-B2D8-7E51F789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36A1-8423-4D24-86AF-9454F633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C73A-2D26-491C-A76B-6D2D6D92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97D2-B009-4404-9B55-7DA8ED4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49A-3F69-4751-B096-C46AA842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87BC4-D951-4CF7-AABE-6A0476B3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943C-5EDB-4253-B52D-AA118ED7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9142-8393-454D-9EC2-339C9730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2CFC-E4BE-4068-816C-DA4B9F50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1D43A-D1AC-4EA3-B82A-1FCEA8AE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4913-5431-4E1B-B828-04E1A091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B7D8-CAF3-4C0E-B745-C489DC6E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5B1D-540C-409A-9CB8-60E2329E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FF5B-8DDC-4A5C-AEE9-E65F31B7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DDDE-2CF0-4DB5-B417-3ABE4B93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FD9-8EEA-4475-B602-7F227EB5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AF211-9C08-49DE-A5E6-A4CF96F1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E29AA-BDBC-4D94-961B-48310E2E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7441-4C54-4781-9CCB-8530EE07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C22A0-683C-471F-9CBD-E31E645D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6AB9-72D8-4FFA-8C34-6B134B17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DF25-B25B-4728-A560-88402560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C688E-4297-45CA-B510-CC4D7D7D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07B0-C9FD-4DDF-8AB1-C5EE929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6E2DA-1DBD-471C-AA2D-B8B6036B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35600-4A9F-477C-98CE-3E7BBB7C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1A3-DF13-4842-A117-E223480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B9C82-A6D2-40FD-ACD5-7021B79B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01C94-8B7C-4DA1-9B57-4D102D2D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87BF5-38CE-41CD-84A2-A5F5D91B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93370-3809-4E6F-A218-5C8AA341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9944E-3FA1-4248-96A1-1FFF772A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EECAE-5F4D-45EB-A0B1-7C28242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57B96-912B-45C9-95B2-360B0FD9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9F3A-5B5F-43E7-A8D2-7FC33952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3487-300B-44CE-A8FB-4F398A3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80BA6-22DA-45F8-89D8-86E2DE96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F21-AEFA-4D4F-AC8A-5677E900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449BB-4093-483D-8639-608D26BA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FD9C9-BE1D-4166-906F-09E6E07F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10CE-51AB-49A4-B16C-FD33921C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C5C46-2EDE-4476-89E9-663B70AC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88290-765E-4162-A542-BF0BC03F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D927-A601-4BCE-8F99-BF9817D1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6B751-F419-4C0F-9929-94C981E9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C4996-8349-4009-8E6E-69A680BB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E2983-8C83-46F4-8DF9-BD9748FC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BD20-1870-4485-BB87-12099C03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698-B73F-47DE-90E1-24F4D14A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29E8-A283-4F32-BA14-E6FCBC9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FA749-E526-4E27-B272-9CA7497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07748-BED4-40B4-85AC-2360959F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67B6A-BF9A-4ADA-8DF8-EA57A5C3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20D43-DEFB-4A22-9654-1CCED5AE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105-F902-4002-A33A-776E330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C9DD-9834-4DB1-89A5-8000586EC40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693B-02E0-42E2-9631-D57EF550516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0AFF-9E45-469C-B168-092FC0A6202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3305-57E5-49C3-8418-691B4F83559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06BF-4FD8-4145-AB32-A8C2B55DC21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298D-D4A0-44BF-A0C5-F9EFFD7E55A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F752-03EE-443C-A0E5-30304CFCFC5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449-106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terary symbols that stand for a significant concept in a work of litera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ot – represents achievements of the Scyldings; a place of light, warmth, and jo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’s lair (swamp) – morbid, hot, da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ven though Beowulf was written as a pagan myth, more than likely a Christian monk copied it down, adding Christian elements into the dialogue and plo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 of Christian elemen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 21, lines 20-23, “Conceived by a pair of those monsters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born of Cai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murderous creatures banished by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Go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punished forever for the crime of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Abel’s death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 33, lines 483-485, “for that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n-stained dem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had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bewitch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ll men’s weapons,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laid spell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 blunted every mortal man’s blade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oet Homer wrote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Odysse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osed sometime between 900 and 700 B.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ttle is known about Hom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nam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Home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ay mean “hostage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 may have been a slave or descended from slav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mer used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pic similie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(extended comparisons.)  These comparisons last for several lines, us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and compare extraordinary, heroic actions to simple, everyday events with which Homer’s audience would be famili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ld in oral trad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ong with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Odysse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ells the story of the Trojan W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war began with a beauty page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phrodite, Athena, and Hera decided to compete for a golden apple which was inscribed “To the Faires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ods chose a mortal to judge the page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is, the prince of Troy, was chosen as the judge.  He was young and handsome but naïv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oddesses each attempted to bribe Paris.  He finally accepted Aphrodite’s bribe because she offered him the most appealing gift—marriage to Helen, the world’s most beautiful woma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There was a slight problem though.  Helen was already married to King Menelaus of Greece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Paris took her anyway, and they sailed for Troy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The Greek chieftains were outraged by the abduction.  They were bound by oaths of loyalty, so they followed the leadership of Menelaus’s brother Agamemnon and attacked Troy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reek war party laid siege to Troy.  This led to a conflict which lasted ten years before the Greeks defeated Troy and recaptured Hele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was due to the craftiness of Odysseus that the Greeks were successfu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revolves around tow main character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hilles – the bravest and most handsome warrior in the Greek arm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ctor – the honorable warrior-prince of Tro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tragedy of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set into motion because of human emotion:  the anger of Achilles toward Hec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ctor kills Patroclus, Achilles closest friend, and takes his armor from the corp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hilles seeks reve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rhy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iteration – repetition of consonant sou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esura – a rhythmical pause in the middle of a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 beats per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xture of Christian and pagan el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nnings – specialized metaphors of comp0und w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lgamesh – the king of Uruk; eager for fa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kidu – Gilgamesh’s friend; faithful and dedicat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umbaba – evil; deformed giant and forest guardi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OIC IDEAL?  WHY or WHY NO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eter Book – a manuscript of miscellaneous Anglo-Saxon poems dating from 940 AD, copied in 975 AD, and preserved at Exeter Cathedral in Engl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enn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mager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legaic mood (a sense of sadness over the grimness of earthly life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iter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3182 lines as opposed to over 15,0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pic – long narrative poem about the adventures of a hero whose actions affect the fate of a n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Iliad, The Odysse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nglo-Saxon heroic ideal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rified by the people he sav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xtremely ethica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nsters are defeated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perior strength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central idea or insight of a work of literatu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OT the same thing as the mor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ften impli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did the hero do in the story?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did the heroes actions show his concern for society?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Both questions sound the same, but the first deals with the PLOT of the story.  The second deals with the 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theme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of the stor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are some common themes in literatur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rime does not pa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dversity (hardships) can be overcom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Life and death are intricately connect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eowulf – epic hero; a Gea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recca – Beowulf’s friend &amp; competito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iglac – Beowulf’s uncle &amp; feudal l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rendel – man-eating monst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Unferth – skilled warrior of Hrothgar; jealous of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runting – Unferth’s sword used by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rothgar – King of the Danes (Denmark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eats – Beowulf’s tribe (Swede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rendel’s mom – she-wolf; water-witch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erot – Hrothgar’s golden mead hal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yrd – pagan goddess of fat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iglaf – Beowulf’s loyal warrior; fights the drag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Content Placeholder 3" descr="2.jpg"/>
          <p:cNvPicPr/>
          <p:nvPr/>
        </p:nvPicPr>
        <p:blipFill>
          <a:blip r:embed="rId2"/>
          <a:stretch/>
        </p:blipFill>
        <p:spPr>
          <a:xfrm>
            <a:off x="609480" y="1676520"/>
            <a:ext cx="4375440" cy="46479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5715000" y="190512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des (Scylf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ats (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s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hob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of vivid or figurative language to express images in art, literature, or mus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agery appeals to ALL senses—sight, smell, taste, hearing, tou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 found them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prawl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n sleep, suspecting nothing, their dreams undisturbed.  The monster’s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oughts were as quick as his greed or his claw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 H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lipp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rough the door and there in th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lenc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natched up thirty me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mashed them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knowing in their beds, and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ran ou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their bodies, th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blood dripping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ehind him, back to his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lai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deligh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with his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night’s slaughte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mething that causes a person to act in a certain way; incen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 of motive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rendel’s monstrous mother,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in grief for her s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next attacks Herot, and in her dripping claws she carries off one man—Hrothgar’s closest friend.  The monster also carries off Grendel’s arm, which Beowulf had hung high from the rafter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8:09:43Z</dcterms:created>
  <dc:creator>pcoles</dc:creator>
  <dc:description/>
  <dc:language>en-US</dc:language>
  <cp:lastModifiedBy>pcoles</cp:lastModifiedBy>
  <dcterms:modified xsi:type="dcterms:W3CDTF">2010-07-24T21:03:17Z</dcterms:modified>
  <cp:revision>27</cp:revision>
  <dc:subject/>
  <dc:title>Anglo-Saxon Literature</dc:title>
</cp:coreProperties>
</file>